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439-7F86-4921-8DAC-A6683B42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088-2F45-42D1-88A3-9D016E14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9DD-7CE3-4C00-A8A5-96413991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E4C-716A-44E9-A164-197E1A74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1F4-A869-4ABA-8B50-50074C97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12B-A41D-4CAB-A0D7-DE68D855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95A-F42F-4C22-8E21-3FD1FEF1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829-1CE6-4DBF-B2CA-A471D5C5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C23-018B-4501-9FB6-2A912D8A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F15-62FA-4FBF-8402-1FA86E0D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7CC-EDE3-4448-9067-53D72D1C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9E3-C84C-4047-B54D-2A4ED169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03E5-8E30-438A-9F37-5190F7F8D5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 нрав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Вертикальный свиток 3"/>
          <p:cNvSpPr/>
          <p:nvPr/>
        </p:nvSpPr>
        <p:spPr>
          <a:xfrm>
            <a:off x="971640" y="1700280"/>
            <a:ext cx="7704000" cy="48243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050920" y="508464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ЕХОВА Т.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а Тыва, город Кыз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1"/>
          <a:stretch/>
        </p:blipFill>
        <p:spPr>
          <a:xfrm>
            <a:off x="2266920" y="2444760"/>
            <a:ext cx="55483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4652640"/>
            <a:ext cx="8496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Думай хорошо, и мысли созреют в добрые поступ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5"/>
          <p:cNvSpPr/>
          <p:nvPr/>
        </p:nvSpPr>
        <p:spPr>
          <a:xfrm>
            <a:off x="6372360" y="5950080"/>
            <a:ext cx="22320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Лев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7" descr="http://irinazaytseva.ru/Pic/love_pisma8.jpg"/>
          <p:cNvPicPr/>
          <p:nvPr/>
        </p:nvPicPr>
        <p:blipFill>
          <a:blip r:embed="rId2"/>
          <a:stretch/>
        </p:blipFill>
        <p:spPr>
          <a:xfrm>
            <a:off x="1744560" y="198360"/>
            <a:ext cx="5923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То, что мы есть сегодня,— это следствие наших вчерашних мыслей, а сегодняшние мысли создают завтрашнюю жизнь». Буд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zgrad.net/images/umor/images/b26/791c9ca05a9bc7e0133925f8e7a5c49a.jpg"/>
          <p:cNvPicPr/>
          <p:nvPr/>
        </p:nvPicPr>
        <p:blipFill>
          <a:blip r:embed="rId1"/>
          <a:stretch/>
        </p:blipFill>
        <p:spPr>
          <a:xfrm>
            <a:off x="1116000" y="1778040"/>
            <a:ext cx="64087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404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гда то, чего мы очень долго ждём, наконец приходит, оно кажется неожиданностью», — сказал однажды М. Тв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jdang.files.wordpress.com/2007/05/realism2.jpg"/>
          <p:cNvPicPr/>
          <p:nvPr/>
        </p:nvPicPr>
        <p:blipFill>
          <a:blip r:embed="rId1"/>
          <a:stretch/>
        </p:blipFill>
        <p:spPr>
          <a:xfrm>
            <a:off x="1547640" y="1757520"/>
            <a:ext cx="583272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ез Паскаль: «Чем человек умнее и добрей, тем больше он замечает добра в людях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content.answcdn.com/main/content/img/webpics/Blaise_Pascal.jpg"/>
          <p:cNvPicPr/>
          <p:nvPr/>
        </p:nvPicPr>
        <p:blipFill>
          <a:blip r:embed="rId1"/>
          <a:stretch/>
        </p:blipFill>
        <p:spPr>
          <a:xfrm>
            <a:off x="2124000" y="1773360"/>
            <a:ext cx="417672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997560" y="620640"/>
            <a:ext cx="566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овицы о доброт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3"/>
          <p:cNvSpPr/>
          <p:nvPr/>
        </p:nvSpPr>
        <p:spPr>
          <a:xfrm>
            <a:off x="0" y="1125360"/>
            <a:ext cx="9144000" cy="6048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Учись доброму - плохое на ум не пойдёт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Про доброе дело говори смело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Жизнь дана на добрые дела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Худо жить без ласкового слов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Татьяна</cp:lastModifiedBy>
  <dcterms:modified xsi:type="dcterms:W3CDTF">2015-01-30T13:14:58Z</dcterms:modified>
  <cp:revision>693</cp:revision>
  <dc:subject/>
  <dc:title>Diapositiva 1</dc:title>
</cp:coreProperties>
</file>